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74E-97BD-464D-9C02-2C8B6B17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069-D4F5-4067-B9E7-5F90C37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832-9F52-491F-A5AB-FEDE37B6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8E1-F2A3-4084-875D-410E56F7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B263-6F7D-417A-974F-F50A8734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E23-4255-4429-86A3-3FB24EB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AD68-D776-4156-A1F7-136D64E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A26B-CB57-4005-8752-9DCBF03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7AFC-F230-4E5A-9897-E06BDED9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4AF-D39C-4BF3-AE12-0C5F5B37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659A-C455-48D3-A1E6-C4FAA95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F40-7E81-4315-ADB5-C864E804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DC8-2FC5-4ABA-8275-2160525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4EF9-4961-4908-BFC5-635EE11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7FF6-CDD5-40A8-8E77-D6D9E86D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370-783F-433E-9926-57928BF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B18-84F4-45E2-AC34-80DE3B39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24B-56BE-43D3-A9D3-6C657DD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78D-E9DB-4B63-B6C8-5FB5A59D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A62-B5B3-4EDA-90FB-A05D906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D25-6538-4B2B-B6C0-DADB4670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A74-63B1-44F2-8315-0CD4F54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00F-F227-4C56-87AE-091F414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B47-0D97-4AEC-B1EC-16E2C27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AA0-65CE-4081-B4E2-5283E4B5D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90B7-3003-4CFF-9184-E5D9786A6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IAnimation.mov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IIAnimation.m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eiosisVideo2DigitalFrog.mov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MeiosisVideo1CraneFlySpermatocyte.mov" TargetMode="External"/><Relationship Id="rId4" Type="http://schemas.openxmlformats.org/officeDocument/2006/relationships/hyperlink" Target="MitosisVideo.mov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On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alphaModFix amt="38000"/>
          </a:blip>
          <a:stretch/>
        </p:blipFill>
        <p:spPr>
          <a:xfrm>
            <a:off x="2057400" y="1828800"/>
            <a:ext cx="5181480" cy="4575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0920" y="2057400"/>
            <a:ext cx="4190760" cy="42580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nnotated f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5-E Learning 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76280"/>
            <a:ext cx="1276200" cy="2495520"/>
            <a:chOff x="457200" y="476280"/>
            <a:chExt cx="1276200" cy="24955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142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60400" y="4762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28800" y="471600"/>
            <a:ext cx="1276200" cy="2500200"/>
            <a:chOff x="1828800" y="471600"/>
            <a:chExt cx="1276200" cy="250020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15141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249640" y="47160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0400" y="439560"/>
            <a:ext cx="1276200" cy="2532240"/>
            <a:chOff x="3200400" y="439560"/>
            <a:chExt cx="1276200" cy="2532240"/>
          </a:xfrm>
        </p:grpSpPr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8857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49680" y="4395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455760"/>
            <a:ext cx="1276200" cy="2516040"/>
            <a:chOff x="4572000" y="455760"/>
            <a:chExt cx="1276200" cy="2516040"/>
          </a:xfrm>
        </p:grpSpPr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42573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944240" y="4557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943600" y="455760"/>
            <a:ext cx="1276200" cy="2516040"/>
            <a:chOff x="5943600" y="455760"/>
            <a:chExt cx="1276200" cy="2516040"/>
          </a:xfrm>
        </p:grpSpPr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56289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04040" y="45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315200" y="487440"/>
            <a:ext cx="1276200" cy="2484360"/>
            <a:chOff x="7315200" y="487440"/>
            <a:chExt cx="1276200" cy="2484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7000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758720" y="4874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40760" y="3378240"/>
            <a:ext cx="1276200" cy="2495520"/>
            <a:chOff x="7340760" y="3378240"/>
            <a:chExt cx="1276200" cy="2495520"/>
          </a:xfrm>
        </p:grpSpPr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7026120" y="428292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43960" y="337824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44640" y="3367080"/>
            <a:ext cx="1276200" cy="2500200"/>
            <a:chOff x="1844640" y="3367080"/>
            <a:chExt cx="1276200" cy="2500200"/>
          </a:xfrm>
        </p:grpSpPr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153000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65480" y="3367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87840" y="3336840"/>
            <a:ext cx="1276200" cy="2532240"/>
            <a:chOff x="4587840" y="3336840"/>
            <a:chExt cx="1276200" cy="2532240"/>
          </a:xfrm>
        </p:grpSpPr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273200" y="42782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37120" y="333684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381480"/>
            <a:ext cx="1276200" cy="2516040"/>
            <a:chOff x="457200" y="3381480"/>
            <a:chExt cx="1276200" cy="2516040"/>
          </a:xfrm>
        </p:grpSpPr>
        <p:pic>
          <p:nvPicPr>
            <p:cNvPr id="149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2560" y="430668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29440" y="33814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22720" y="3351240"/>
            <a:ext cx="1276200" cy="2516040"/>
            <a:chOff x="3222720" y="3351240"/>
            <a:chExt cx="1276200" cy="2516040"/>
          </a:xfrm>
        </p:grpSpPr>
        <p:pic>
          <p:nvPicPr>
            <p:cNvPr id="152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290808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83160" y="3351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52960" y="3378240"/>
            <a:ext cx="1276200" cy="2484360"/>
            <a:chOff x="5952960" y="3378240"/>
            <a:chExt cx="1276200" cy="2484360"/>
          </a:xfrm>
        </p:grpSpPr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5638320" y="42717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396480" y="33782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08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11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1516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0040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17524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543800" y="990720"/>
            <a:ext cx="1314360" cy="1904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9800" y="4176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2560" y="4129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49680" y="3808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28560" y="396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39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6840" y="4287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48320" y="3505320"/>
            <a:ext cx="1314360" cy="2429280"/>
            <a:chOff x="4648320" y="3505320"/>
            <a:chExt cx="1314360" cy="2429280"/>
          </a:xfrm>
        </p:grpSpPr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43527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083560" y="53532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95880" y="3505320"/>
            <a:ext cx="1314360" cy="2424600"/>
            <a:chOff x="6095880" y="3505320"/>
            <a:chExt cx="1314360" cy="242460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58003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65600" y="534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0400" y="3505320"/>
            <a:ext cx="1314360" cy="2392560"/>
            <a:chOff x="3200400" y="3505320"/>
            <a:chExt cx="1314360" cy="2392560"/>
          </a:xfrm>
        </p:grpSpPr>
        <p:pic>
          <p:nvPicPr>
            <p:cNvPr id="184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29048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649320" y="531648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52480" y="3505320"/>
            <a:ext cx="1314360" cy="2408760"/>
            <a:chOff x="1752480" y="3505320"/>
            <a:chExt cx="1314360" cy="2408760"/>
          </a:xfrm>
        </p:grpSpPr>
        <p:pic>
          <p:nvPicPr>
            <p:cNvPr id="187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569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232720" y="533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5840" y="3505320"/>
            <a:ext cx="1314360" cy="2408760"/>
            <a:chOff x="285840" y="3505320"/>
            <a:chExt cx="1314360" cy="2408760"/>
          </a:xfrm>
        </p:grpSpPr>
        <p:pic>
          <p:nvPicPr>
            <p:cNvPr id="190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93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30080" y="5332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43800" y="3505320"/>
            <a:ext cx="1314360" cy="2440440"/>
            <a:chOff x="7543800" y="3505320"/>
            <a:chExt cx="1314360" cy="2440440"/>
          </a:xfrm>
        </p:grpSpPr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72482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926480" y="536436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923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99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784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357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833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144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800" y="2013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518080" y="1994040"/>
            <a:ext cx="1644840" cy="1644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08400" y="5375160"/>
            <a:ext cx="38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Soma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010280" y="350532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2578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 of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25636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tiv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=23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loid (game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29920" y="5092560"/>
            <a:ext cx="215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ploid)       (ha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a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s an explanation using ideas students have generated in Expl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can add content as needed to make the explanation coherent and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if process of explaining makes use of several media (text, visuals, physical models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1" name=""/>
          <p:cNvGrpSpPr/>
          <p:nvPr/>
        </p:nvGrpSpPr>
        <p:grpSpPr>
          <a:xfrm>
            <a:off x="2637360" y="2034360"/>
            <a:ext cx="2117520" cy="1975680"/>
            <a:chOff x="2637360" y="2034360"/>
            <a:chExt cx="2117520" cy="1975680"/>
          </a:xfrm>
        </p:grpSpPr>
        <p:sp>
          <p:nvSpPr>
            <p:cNvPr id="242" name="_s21601"/>
            <p:cNvSpPr/>
            <p:nvPr/>
          </p:nvSpPr>
          <p:spPr>
            <a:xfrm>
              <a:off x="3134520" y="203436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21602"/>
            <p:cNvSpPr/>
            <p:nvPr/>
          </p:nvSpPr>
          <p:spPr>
            <a:xfrm rot="4320000">
              <a:off x="3506400" y="226944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21629"/>
            <p:cNvSpPr/>
            <p:nvPr/>
          </p:nvSpPr>
          <p:spPr>
            <a:xfrm rot="8640000">
              <a:off x="3355200" y="269244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21603"/>
            <p:cNvSpPr/>
            <p:nvPr/>
          </p:nvSpPr>
          <p:spPr>
            <a:xfrm rot="12960000">
              <a:off x="2914200" y="26928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21604"/>
            <p:cNvSpPr/>
            <p:nvPr/>
          </p:nvSpPr>
          <p:spPr>
            <a:xfrm rot="17280000">
              <a:off x="2793960" y="227016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21605"/>
            <p:cNvSpPr/>
            <p:nvPr/>
          </p:nvSpPr>
          <p:spPr>
            <a:xfrm>
              <a:off x="3983760" y="20804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21606"/>
            <p:cNvSpPr/>
            <p:nvPr/>
          </p:nvSpPr>
          <p:spPr>
            <a:xfrm>
              <a:off x="2688840" y="29966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21607"/>
            <p:cNvSpPr/>
            <p:nvPr/>
          </p:nvSpPr>
          <p:spPr>
            <a:xfrm>
              <a:off x="2994120" y="2081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21608"/>
            <p:cNvSpPr/>
            <p:nvPr/>
          </p:nvSpPr>
          <p:spPr>
            <a:xfrm>
              <a:off x="4290480" y="299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1628"/>
            <p:cNvSpPr/>
            <p:nvPr/>
          </p:nvSpPr>
          <p:spPr>
            <a:xfrm>
              <a:off x="3490200" y="3561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5837760" y="1958400"/>
            <a:ext cx="2117520" cy="1975320"/>
            <a:chOff x="5837760" y="1958400"/>
            <a:chExt cx="2117520" cy="1975320"/>
          </a:xfrm>
        </p:grpSpPr>
        <p:sp>
          <p:nvSpPr>
            <p:cNvPr id="254" name="_s21612"/>
            <p:cNvSpPr/>
            <p:nvPr/>
          </p:nvSpPr>
          <p:spPr>
            <a:xfrm>
              <a:off x="6334920" y="19584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21613"/>
            <p:cNvSpPr/>
            <p:nvPr/>
          </p:nvSpPr>
          <p:spPr>
            <a:xfrm rot="4320000">
              <a:off x="6706800" y="219348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1631"/>
            <p:cNvSpPr/>
            <p:nvPr/>
          </p:nvSpPr>
          <p:spPr>
            <a:xfrm rot="8640000">
              <a:off x="6555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1614"/>
            <p:cNvSpPr/>
            <p:nvPr/>
          </p:nvSpPr>
          <p:spPr>
            <a:xfrm rot="12960000">
              <a:off x="6114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1615"/>
            <p:cNvSpPr/>
            <p:nvPr/>
          </p:nvSpPr>
          <p:spPr>
            <a:xfrm rot="17280000">
              <a:off x="5994360" y="219420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21616"/>
            <p:cNvSpPr/>
            <p:nvPr/>
          </p:nvSpPr>
          <p:spPr>
            <a:xfrm>
              <a:off x="7184160" y="2004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21617"/>
            <p:cNvSpPr/>
            <p:nvPr/>
          </p:nvSpPr>
          <p:spPr>
            <a:xfrm>
              <a:off x="5889240" y="29206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21618"/>
            <p:cNvSpPr/>
            <p:nvPr/>
          </p:nvSpPr>
          <p:spPr>
            <a:xfrm>
              <a:off x="6194520" y="200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21619"/>
            <p:cNvSpPr/>
            <p:nvPr/>
          </p:nvSpPr>
          <p:spPr>
            <a:xfrm>
              <a:off x="7490880" y="29192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21630"/>
            <p:cNvSpPr/>
            <p:nvPr/>
          </p:nvSpPr>
          <p:spPr>
            <a:xfrm>
              <a:off x="6690600" y="3485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77800" y="374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ei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6360" y="4191120"/>
            <a:ext cx="23842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28280" y="4191120"/>
            <a:ext cx="25045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eiosis 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2160" y="458640"/>
            <a:ext cx="1586160" cy="2394720"/>
            <a:chOff x="182160" y="458640"/>
            <a:chExt cx="1586160" cy="2394720"/>
          </a:xfrm>
        </p:grpSpPr>
        <p:sp>
          <p:nvSpPr>
            <p:cNvPr id="272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360" y="2500200"/>
              <a:ext cx="12916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Interphas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160" y="458640"/>
              <a:ext cx="1326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other ce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05320" y="4495680"/>
            <a:ext cx="2239920" cy="1295640"/>
            <a:chOff x="3505320" y="4495680"/>
            <a:chExt cx="2239920" cy="1295640"/>
          </a:xfrm>
        </p:grpSpPr>
        <p:sp>
          <p:nvSpPr>
            <p:cNvPr id="277" name=""/>
            <p:cNvSpPr/>
            <p:nvPr/>
          </p:nvSpPr>
          <p:spPr>
            <a:xfrm>
              <a:off x="4648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5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021200" y="4873320"/>
              <a:ext cx="167760" cy="658440"/>
              <a:chOff x="4021200" y="4873320"/>
              <a:chExt cx="167760" cy="658440"/>
            </a:xfrm>
          </p:grpSpPr>
          <p:sp>
            <p:nvSpPr>
              <p:cNvPr id="280" name=""/>
              <p:cNvSpPr/>
              <p:nvPr/>
            </p:nvSpPr>
            <p:spPr>
              <a:xfrm flipH="1" flipV="1" rot="21345600">
                <a:off x="4098960" y="5057280"/>
                <a:ext cx="7164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609600">
                <a:off x="4104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254400">
                <a:off x="4038480" y="5061240"/>
                <a:ext cx="7164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990400">
                <a:off x="4043160" y="487980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76640" y="506232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016240" y="4949280"/>
              <a:ext cx="159120" cy="418680"/>
              <a:chOff x="5016240" y="4949280"/>
              <a:chExt cx="159120" cy="418680"/>
            </a:xfrm>
          </p:grpSpPr>
          <p:sp>
            <p:nvSpPr>
              <p:cNvPr id="286" name=""/>
              <p:cNvSpPr/>
              <p:nvPr/>
            </p:nvSpPr>
            <p:spPr>
              <a:xfrm flipH="1" flipV="1" rot="21178800">
                <a:off x="5088960" y="51483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384600">
                <a:off x="5088960" y="49525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 rot="421200">
                <a:off x="5028840" y="51483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15400">
                <a:off x="5028840" y="49557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67360" y="51246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164200" y="4873320"/>
              <a:ext cx="167760" cy="658440"/>
              <a:chOff x="5164200" y="4873320"/>
              <a:chExt cx="167760" cy="658440"/>
            </a:xfrm>
          </p:grpSpPr>
          <p:sp>
            <p:nvSpPr>
              <p:cNvPr id="292" name=""/>
              <p:cNvSpPr/>
              <p:nvPr/>
            </p:nvSpPr>
            <p:spPr>
              <a:xfrm flipH="1" flipV="1" rot="21345600">
                <a:off x="5243040" y="505728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609600">
                <a:off x="5247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254400">
                <a:off x="5181840" y="506124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990400">
                <a:off x="5186160" y="4879800"/>
                <a:ext cx="65160" cy="223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19640" y="5062320"/>
                <a:ext cx="6192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873240" y="4949280"/>
              <a:ext cx="158760" cy="418320"/>
              <a:chOff x="3873240" y="4949280"/>
              <a:chExt cx="158760" cy="418320"/>
            </a:xfrm>
          </p:grpSpPr>
          <p:sp>
            <p:nvSpPr>
              <p:cNvPr id="298" name=""/>
              <p:cNvSpPr/>
              <p:nvPr/>
            </p:nvSpPr>
            <p:spPr>
              <a:xfrm flipH="1" flipV="1" rot="21178800">
                <a:off x="3945600" y="514728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384600">
                <a:off x="3945600" y="495252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421200">
                <a:off x="3885840" y="5147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215400">
                <a:off x="3885840" y="4955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512424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74600" y="4832640"/>
            <a:ext cx="3316680" cy="1078920"/>
            <a:chOff x="174600" y="4832640"/>
            <a:chExt cx="3316680" cy="1078920"/>
          </a:xfrm>
        </p:grpSpPr>
        <p:sp>
          <p:nvSpPr>
            <p:cNvPr id="304" name=""/>
            <p:cNvSpPr/>
            <p:nvPr/>
          </p:nvSpPr>
          <p:spPr>
            <a:xfrm>
              <a:off x="174600" y="5359320"/>
              <a:ext cx="12186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e5ffff"/>
                  </a:solidFill>
                  <a:latin typeface="Tahoma"/>
                </a:rPr>
                <a:t>Meiosis I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995200">
              <a:off x="1980720" y="4952880"/>
              <a:ext cx="1447920" cy="838440"/>
            </a:xfrm>
            <a:prstGeom prst="leftArrow">
              <a:avLst>
                <a:gd name="adj1" fmla="val 50000"/>
                <a:gd name="adj2" fmla="val 43173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9900cc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05320" y="1371600"/>
            <a:ext cx="2209680" cy="2532240"/>
            <a:chOff x="3505320" y="1371600"/>
            <a:chExt cx="2209680" cy="2532240"/>
          </a:xfrm>
        </p:grpSpPr>
        <p:sp>
          <p:nvSpPr>
            <p:cNvPr id="307" name=""/>
            <p:cNvSpPr/>
            <p:nvPr/>
          </p:nvSpPr>
          <p:spPr>
            <a:xfrm>
              <a:off x="3886200" y="303228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cc00"/>
                  </a:solidFill>
                  <a:latin typeface="Tahoma"/>
                </a:rPr>
                <a:t>Tetrad 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8480" y="1447920"/>
              <a:ext cx="152424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420080" y="2250360"/>
              <a:ext cx="381600" cy="654120"/>
              <a:chOff x="4420080" y="2250360"/>
              <a:chExt cx="381600" cy="654120"/>
            </a:xfrm>
          </p:grpSpPr>
          <p:sp>
            <p:nvSpPr>
              <p:cNvPr id="310" name=""/>
              <p:cNvSpPr/>
              <p:nvPr/>
            </p:nvSpPr>
            <p:spPr>
              <a:xfrm flipH="1" flipV="1" rot="984600">
                <a:off x="4574520" y="24332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1848600">
                <a:off x="4686120" y="227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 rot="1492800">
                <a:off x="4515120" y="241560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9400">
                <a:off x="4627800" y="22543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239000">
                <a:off x="4626000" y="244188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682160" y="1676520"/>
              <a:ext cx="372240" cy="411480"/>
              <a:chOff x="4682160" y="1676520"/>
              <a:chExt cx="372240" cy="411480"/>
            </a:xfrm>
          </p:grpSpPr>
          <p:sp>
            <p:nvSpPr>
              <p:cNvPr id="316" name=""/>
              <p:cNvSpPr/>
              <p:nvPr/>
            </p:nvSpPr>
            <p:spPr>
              <a:xfrm flipH="1" flipV="1" rot="18853800">
                <a:off x="4914720" y="183096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19659000">
                <a:off x="4792680" y="167904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19696200">
                <a:off x="4867560" y="18680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890400">
                <a:off x="4747680" y="17186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275000">
                <a:off x="4830120" y="1848960"/>
                <a:ext cx="6156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529520" y="2287800"/>
              <a:ext cx="366120" cy="655200"/>
              <a:chOff x="4529520" y="2287800"/>
              <a:chExt cx="366120" cy="655200"/>
            </a:xfrm>
          </p:grpSpPr>
          <p:sp>
            <p:nvSpPr>
              <p:cNvPr id="322" name=""/>
              <p:cNvSpPr/>
              <p:nvPr/>
            </p:nvSpPr>
            <p:spPr>
              <a:xfrm flipH="1" flipV="1" rot="889200">
                <a:off x="4679280" y="247104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1753200">
                <a:off x="4782600" y="230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398000">
                <a:off x="4619160" y="24555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34000">
                <a:off x="4723560" y="229140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43600">
                <a:off x="4725000" y="2478960"/>
                <a:ext cx="6156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753800" y="1603440"/>
              <a:ext cx="381600" cy="405000"/>
              <a:chOff x="4753800" y="1603440"/>
              <a:chExt cx="381600" cy="405000"/>
            </a:xfrm>
          </p:grpSpPr>
          <p:sp>
            <p:nvSpPr>
              <p:cNvPr id="328" name=""/>
              <p:cNvSpPr/>
              <p:nvPr/>
            </p:nvSpPr>
            <p:spPr>
              <a:xfrm flipH="1" flipV="1" rot="18693600">
                <a:off x="4993560" y="17499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19499400">
                <a:off x="4864320" y="1604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9536000">
                <a:off x="4948200" y="1790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730200">
                <a:off x="4821480" y="1646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114800">
                <a:off x="4906080" y="17730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05320" y="1371600"/>
              <a:ext cx="83808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0080" y="1676520"/>
            <a:ext cx="2073240" cy="2091240"/>
            <a:chOff x="5410080" y="1676520"/>
            <a:chExt cx="2073240" cy="2091240"/>
          </a:xfrm>
        </p:grpSpPr>
        <p:sp>
          <p:nvSpPr>
            <p:cNvPr id="335" name=""/>
            <p:cNvSpPr/>
            <p:nvPr/>
          </p:nvSpPr>
          <p:spPr>
            <a:xfrm>
              <a:off x="5757120" y="3414600"/>
              <a:ext cx="14990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et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959440" y="1752480"/>
              <a:ext cx="1523880" cy="1676520"/>
              <a:chOff x="5959440" y="1752480"/>
              <a:chExt cx="1523880" cy="1676520"/>
            </a:xfrm>
          </p:grpSpPr>
          <p:sp>
            <p:nvSpPr>
              <p:cNvPr id="337" name=""/>
              <p:cNvSpPr/>
              <p:nvPr/>
            </p:nvSpPr>
            <p:spPr>
              <a:xfrm>
                <a:off x="5959440" y="1752480"/>
                <a:ext cx="152388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6567840" y="2047320"/>
                <a:ext cx="258480" cy="1240560"/>
                <a:chOff x="6567840" y="2047320"/>
                <a:chExt cx="258480" cy="12405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567840" y="2628360"/>
                  <a:ext cx="167400" cy="659520"/>
                  <a:chOff x="6567840" y="2628360"/>
                  <a:chExt cx="167400" cy="6595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flipV="1" rot="21345600">
                    <a:off x="664632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609600">
                    <a:off x="6651000" y="2631960"/>
                    <a:ext cx="615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 rot="254400">
                    <a:off x="658548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0990400">
                    <a:off x="6589440" y="2635200"/>
                    <a:ext cx="64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622920" y="2817720"/>
                    <a:ext cx="6156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667200" y="2047320"/>
                  <a:ext cx="159120" cy="418680"/>
                  <a:chOff x="6667200" y="2047320"/>
                  <a:chExt cx="159120" cy="4186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flipV="1" rot="21178800">
                    <a:off x="6739920" y="2246400"/>
                    <a:ext cx="727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384600">
                    <a:off x="6739920" y="2050560"/>
                    <a:ext cx="7272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 rot="421200">
                    <a:off x="6679800" y="22464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215400">
                    <a:off x="6679800" y="205380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718320" y="2222640"/>
                    <a:ext cx="6192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643800" y="2628360"/>
                  <a:ext cx="167760" cy="659520"/>
                  <a:chOff x="6643800" y="2628360"/>
                  <a:chExt cx="167760" cy="6595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flipV="1" rot="21345600">
                    <a:off x="672264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609600">
                    <a:off x="6727320" y="2631960"/>
                    <a:ext cx="61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 rot="254400">
                    <a:off x="666144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0990400">
                    <a:off x="6665760" y="2635200"/>
                    <a:ext cx="65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699240" y="2817720"/>
                    <a:ext cx="61920" cy="442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590880" y="2047320"/>
                  <a:ext cx="158760" cy="418320"/>
                  <a:chOff x="6590880" y="2047320"/>
                  <a:chExt cx="158760" cy="4183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flipV="1" rot="21178800">
                    <a:off x="6663240" y="2245320"/>
                    <a:ext cx="730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384600">
                    <a:off x="6663240" y="2050560"/>
                    <a:ext cx="730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 rot="421200">
                    <a:off x="6603480" y="224532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215400">
                    <a:off x="6603480" y="20538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642000" y="2222280"/>
                    <a:ext cx="6192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6067440" y="1924200"/>
                <a:ext cx="1266840" cy="1352520"/>
                <a:chOff x="6067440" y="1924200"/>
                <a:chExt cx="1266840" cy="13525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096240" y="259092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096240" y="246060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067440" y="289260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77160" y="192420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099120" y="267012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96240" y="224316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099120" y="206856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083280" y="276552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"/>
            <p:cNvSpPr/>
            <p:nvPr/>
          </p:nvSpPr>
          <p:spPr>
            <a:xfrm>
              <a:off x="5410080" y="1676520"/>
              <a:ext cx="83844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00200" y="1066680"/>
            <a:ext cx="2209680" cy="2532240"/>
            <a:chOff x="1600200" y="1066680"/>
            <a:chExt cx="2209680" cy="2532240"/>
          </a:xfrm>
        </p:grpSpPr>
        <p:sp>
          <p:nvSpPr>
            <p:cNvPr id="374" name=""/>
            <p:cNvSpPr/>
            <p:nvPr/>
          </p:nvSpPr>
          <p:spPr>
            <a:xfrm>
              <a:off x="1981080" y="272736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Condensing Chromosom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133720" y="1143000"/>
              <a:ext cx="1523880" cy="1676160"/>
              <a:chOff x="2133720" y="1143000"/>
              <a:chExt cx="1523880" cy="1676160"/>
            </a:xfrm>
          </p:grpSpPr>
          <p:sp>
            <p:nvSpPr>
              <p:cNvPr id="376" name=""/>
              <p:cNvSpPr/>
              <p:nvPr/>
            </p:nvSpPr>
            <p:spPr>
              <a:xfrm>
                <a:off x="2133720" y="114300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530080" y="1751760"/>
                <a:ext cx="379800" cy="660240"/>
                <a:chOff x="2530080" y="1751760"/>
                <a:chExt cx="379800" cy="660240"/>
              </a:xfrm>
            </p:grpSpPr>
            <p:sp>
              <p:nvSpPr>
                <p:cNvPr id="378" name=""/>
                <p:cNvSpPr/>
                <p:nvPr/>
              </p:nvSpPr>
              <p:spPr>
                <a:xfrm flipH="1" flipV="1" rot="20097600">
                  <a:off x="2741760" y="1915920"/>
                  <a:ext cx="7164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rot="20961000">
                  <a:off x="2639160" y="175536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 rot="20605800">
                  <a:off x="2685600" y="1942200"/>
                  <a:ext cx="7164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9741800">
                  <a:off x="2582640" y="1779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0351400">
                  <a:off x="2646720" y="1945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777760" y="1368000"/>
                <a:ext cx="159120" cy="418320"/>
                <a:chOff x="2777760" y="1368000"/>
                <a:chExt cx="159120" cy="418320"/>
              </a:xfrm>
            </p:grpSpPr>
            <p:sp>
              <p:nvSpPr>
                <p:cNvPr id="384" name=""/>
                <p:cNvSpPr/>
                <p:nvPr/>
              </p:nvSpPr>
              <p:spPr>
                <a:xfrm flipH="1" flipV="1" rot="21178800">
                  <a:off x="2850480" y="15660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rot="384600">
                  <a:off x="2850480" y="137124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 rot="421200">
                  <a:off x="2790360" y="1566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21215400">
                  <a:off x="2790360" y="137412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828880" y="1542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837520" y="1830240"/>
                <a:ext cx="366120" cy="655200"/>
                <a:chOff x="2837520" y="1830240"/>
                <a:chExt cx="366120" cy="655200"/>
              </a:xfrm>
            </p:grpSpPr>
            <p:sp>
              <p:nvSpPr>
                <p:cNvPr id="390" name=""/>
                <p:cNvSpPr/>
                <p:nvPr/>
              </p:nvSpPr>
              <p:spPr>
                <a:xfrm flipH="1" flipV="1" rot="889200">
                  <a:off x="2986920" y="201420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rot="1753200">
                  <a:off x="3090600" y="18507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 rot="1398000">
                  <a:off x="2927160" y="19972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534000">
                  <a:off x="3031200" y="1833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143600">
                  <a:off x="3033000" y="2021400"/>
                  <a:ext cx="6156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928240" y="1527120"/>
                <a:ext cx="381600" cy="405000"/>
                <a:chOff x="2928240" y="1527120"/>
                <a:chExt cx="381600" cy="405000"/>
              </a:xfrm>
            </p:grpSpPr>
            <p:sp>
              <p:nvSpPr>
                <p:cNvPr id="396" name=""/>
                <p:cNvSpPr/>
                <p:nvPr/>
              </p:nvSpPr>
              <p:spPr>
                <a:xfrm flipH="1" flipV="1" rot="18693600">
                  <a:off x="3168000" y="1673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rot="19499400">
                  <a:off x="3038760" y="15282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 rot="19536000">
                  <a:off x="3122640" y="1713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8730200">
                  <a:off x="2995920" y="1569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9114800">
                  <a:off x="3080520" y="169668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2517840" y="1371600"/>
                <a:ext cx="819000" cy="1108080"/>
              </a:xfrm>
              <a:prstGeom prst="ellipse">
                <a:avLst/>
              </a:prstGeom>
              <a:noFill/>
              <a:ln cap="rnd" w="1260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1600200" y="1066680"/>
              <a:ext cx="83808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53720" y="2057400"/>
            <a:ext cx="2498040" cy="3920400"/>
            <a:chOff x="6453720" y="2057400"/>
            <a:chExt cx="2498040" cy="3920400"/>
          </a:xfrm>
        </p:grpSpPr>
        <p:sp>
          <p:nvSpPr>
            <p:cNvPr id="404" name=""/>
            <p:cNvSpPr/>
            <p:nvPr/>
          </p:nvSpPr>
          <p:spPr>
            <a:xfrm>
              <a:off x="6453720" y="5624640"/>
              <a:ext cx="137556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An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53080" y="3962520"/>
              <a:ext cx="1524240" cy="1676160"/>
              <a:chOff x="6553080" y="3962520"/>
              <a:chExt cx="1524240" cy="1676160"/>
            </a:xfrm>
          </p:grpSpPr>
          <p:sp>
            <p:nvSpPr>
              <p:cNvPr id="406" name=""/>
              <p:cNvSpPr/>
              <p:nvPr/>
            </p:nvSpPr>
            <p:spPr>
              <a:xfrm>
                <a:off x="6553080" y="3962520"/>
                <a:ext cx="152424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61080" y="4133880"/>
                <a:ext cx="1266840" cy="1352520"/>
                <a:chOff x="6661080" y="4133880"/>
                <a:chExt cx="1266840" cy="13525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689880" y="480060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689880" y="467028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61080" y="510228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70800" y="413388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92760" y="487980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89880" y="445284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692760" y="427824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676920" y="497520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948360" y="4790160"/>
                <a:ext cx="208800" cy="679680"/>
                <a:chOff x="6948360" y="4790160"/>
                <a:chExt cx="208800" cy="679680"/>
              </a:xfrm>
            </p:grpSpPr>
            <p:sp>
              <p:nvSpPr>
                <p:cNvPr id="417" name=""/>
                <p:cNvSpPr/>
                <p:nvPr/>
              </p:nvSpPr>
              <p:spPr>
                <a:xfrm flipH="1" flipV="1" rot="20775600">
                  <a:off x="7030440" y="49939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rot="1745400">
                  <a:off x="7038360" y="47908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 rot="21281400">
                  <a:off x="6969600" y="499824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6000">
                  <a:off x="6976800" y="47941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69240" y="4983120"/>
                  <a:ext cx="61920" cy="4464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425720" y="4296240"/>
                <a:ext cx="203760" cy="421560"/>
                <a:chOff x="7425720" y="4296240"/>
                <a:chExt cx="203760" cy="421560"/>
              </a:xfrm>
            </p:grpSpPr>
            <p:sp>
              <p:nvSpPr>
                <p:cNvPr id="423" name=""/>
                <p:cNvSpPr/>
                <p:nvPr/>
              </p:nvSpPr>
              <p:spPr>
                <a:xfrm flipH="1" flipV="1" rot="505800">
                  <a:off x="7539480" y="4495320"/>
                  <a:ext cx="7308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rot="20742000">
                  <a:off x="7530120" y="4301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 rot="1342200">
                  <a:off x="7480440" y="44953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9981200">
                  <a:off x="7470360" y="43048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543800" y="4479840"/>
                  <a:ext cx="6192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390080" y="4777200"/>
                <a:ext cx="221040" cy="685800"/>
                <a:chOff x="7390080" y="4777200"/>
                <a:chExt cx="221040" cy="6858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 flipV="1" rot="241800">
                  <a:off x="7522920" y="498708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rot="20617200">
                  <a:off x="7512480" y="47811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 rot="732000">
                  <a:off x="7461360" y="499284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9408200">
                  <a:off x="7450200" y="47847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531200" y="4979880"/>
                  <a:ext cx="61920" cy="4464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923160" y="4328640"/>
                <a:ext cx="198720" cy="415440"/>
                <a:chOff x="6923160" y="4328640"/>
                <a:chExt cx="198720" cy="415440"/>
              </a:xfrm>
            </p:grpSpPr>
            <p:sp>
              <p:nvSpPr>
                <p:cNvPr id="435" name=""/>
                <p:cNvSpPr/>
                <p:nvPr/>
              </p:nvSpPr>
              <p:spPr>
                <a:xfrm flipH="1" flipV="1" rot="20049000">
                  <a:off x="7003440" y="452160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rot="1485600">
                  <a:off x="7006680" y="4333680"/>
                  <a:ext cx="727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 rot="20890800">
                  <a:off x="6943680" y="4521600"/>
                  <a:ext cx="7452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715800">
                  <a:off x="6946560" y="43365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946920" y="450864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391520" y="2057400"/>
              <a:ext cx="1560240" cy="1981080"/>
            </a:xfrm>
            <a:custGeom>
              <a:avLst/>
              <a:gdLst/>
              <a:ahLst/>
              <a:rect l="l" t="t" r="r" b="b"/>
              <a:pathLst>
                <a:path w="983" h="1248">
                  <a:moveTo>
                    <a:pt x="0" y="0"/>
                  </a:moveTo>
                  <a:cubicBezTo>
                    <a:pt x="260" y="76"/>
                    <a:pt x="520" y="152"/>
                    <a:pt x="672" y="288"/>
                  </a:cubicBezTo>
                  <a:cubicBezTo>
                    <a:pt x="823" y="423"/>
                    <a:pt x="983" y="656"/>
                    <a:pt x="912" y="816"/>
                  </a:cubicBezTo>
                  <a:cubicBezTo>
                    <a:pt x="840" y="975"/>
                    <a:pt x="540" y="1111"/>
                    <a:pt x="240" y="1248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59920" y="4267080"/>
            <a:ext cx="2616840" cy="2033640"/>
            <a:chOff x="3859920" y="4267080"/>
            <a:chExt cx="2616840" cy="2033640"/>
          </a:xfrm>
        </p:grpSpPr>
        <p:sp>
          <p:nvSpPr>
            <p:cNvPr id="442" name=""/>
            <p:cNvSpPr/>
            <p:nvPr/>
          </p:nvSpPr>
          <p:spPr>
            <a:xfrm>
              <a:off x="3859920" y="5932440"/>
              <a:ext cx="1421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638320" y="4267080"/>
              <a:ext cx="83844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 rot="8823000">
            <a:off x="8034120" y="525744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0080" y="628020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Centrom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898600">
            <a:off x="5447880" y="72396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89120" y="6094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bival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of homolog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174120" y="1512720"/>
            <a:ext cx="142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13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eiosis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28600" y="914400"/>
            <a:ext cx="2697120" cy="1295280"/>
            <a:chOff x="228600" y="914400"/>
            <a:chExt cx="2697120" cy="1295280"/>
          </a:xfrm>
        </p:grpSpPr>
        <p:sp>
          <p:nvSpPr>
            <p:cNvPr id="453" name=""/>
            <p:cNvSpPr/>
            <p:nvPr/>
          </p:nvSpPr>
          <p:spPr>
            <a:xfrm>
              <a:off x="18288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44840" y="1291680"/>
              <a:ext cx="167400" cy="659520"/>
              <a:chOff x="744840" y="1291680"/>
              <a:chExt cx="167400" cy="659520"/>
            </a:xfrm>
          </p:grpSpPr>
          <p:sp>
            <p:nvSpPr>
              <p:cNvPr id="456" name=""/>
              <p:cNvSpPr/>
              <p:nvPr/>
            </p:nvSpPr>
            <p:spPr>
              <a:xfrm flipH="1" flipV="1" rot="21345600">
                <a:off x="82332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609600">
                <a:off x="828000" y="1295280"/>
                <a:ext cx="615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254400">
                <a:off x="7624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990400">
                <a:off x="766440" y="1298520"/>
                <a:ext cx="6480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9920" y="1481040"/>
                <a:ext cx="6156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196720" y="1368000"/>
              <a:ext cx="159120" cy="418680"/>
              <a:chOff x="2196720" y="1368000"/>
              <a:chExt cx="159120" cy="418680"/>
            </a:xfrm>
          </p:grpSpPr>
          <p:sp>
            <p:nvSpPr>
              <p:cNvPr id="462" name=""/>
              <p:cNvSpPr/>
              <p:nvPr/>
            </p:nvSpPr>
            <p:spPr>
              <a:xfrm flipH="1" flipV="1" rot="21178800">
                <a:off x="2269440" y="15670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384600">
                <a:off x="2269440" y="13712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 rot="421200">
                <a:off x="2209320" y="1567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1215400">
                <a:off x="2209320" y="1374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47840" y="15433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345040" y="1291680"/>
              <a:ext cx="167760" cy="659520"/>
              <a:chOff x="2345040" y="1291680"/>
              <a:chExt cx="167760" cy="659520"/>
            </a:xfrm>
          </p:grpSpPr>
          <p:sp>
            <p:nvSpPr>
              <p:cNvPr id="468" name=""/>
              <p:cNvSpPr/>
              <p:nvPr/>
            </p:nvSpPr>
            <p:spPr>
              <a:xfrm flipH="1" flipV="1" rot="21345600">
                <a:off x="242388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609600">
                <a:off x="2428560" y="12952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254400">
                <a:off x="23626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990400">
                <a:off x="2367000" y="12985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0480" y="14810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96520" y="1368000"/>
              <a:ext cx="158760" cy="418320"/>
              <a:chOff x="596520" y="1368000"/>
              <a:chExt cx="158760" cy="418320"/>
            </a:xfrm>
          </p:grpSpPr>
          <p:sp>
            <p:nvSpPr>
              <p:cNvPr id="474" name=""/>
              <p:cNvSpPr/>
              <p:nvPr/>
            </p:nvSpPr>
            <p:spPr>
              <a:xfrm flipH="1" flipV="1" rot="21178800">
                <a:off x="668880" y="15660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384600">
                <a:off x="668880" y="13712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421200">
                <a:off x="609120" y="15660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1215400">
                <a:off x="609120" y="1374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7640" y="15429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33520" y="1752480"/>
            <a:ext cx="5658840" cy="1938240"/>
            <a:chOff x="533520" y="1752480"/>
            <a:chExt cx="5658840" cy="1938240"/>
          </a:xfrm>
        </p:grpSpPr>
        <p:sp>
          <p:nvSpPr>
            <p:cNvPr id="480" name=""/>
            <p:cNvSpPr/>
            <p:nvPr/>
          </p:nvSpPr>
          <p:spPr>
            <a:xfrm>
              <a:off x="4541040" y="2808360"/>
              <a:ext cx="1651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33520" y="2286000"/>
              <a:ext cx="1277640" cy="1404720"/>
              <a:chOff x="533520" y="2286000"/>
              <a:chExt cx="1277640" cy="14047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533520" y="2286000"/>
                <a:ext cx="1277640" cy="1404720"/>
                <a:chOff x="533520" y="2286000"/>
                <a:chExt cx="1277640" cy="14047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33520" y="22860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623880" y="2428920"/>
                  <a:ext cx="1062000" cy="1134720"/>
                  <a:chOff x="623880" y="2428920"/>
                  <a:chExt cx="1062000" cy="11347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48000" y="29883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48000" y="28789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23880" y="32414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31800" y="24289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50160" y="30546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48000" y="26964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50160" y="25498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36840" y="31348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1081440" y="2993760"/>
                <a:ext cx="167400" cy="658440"/>
                <a:chOff x="1081440" y="2993760"/>
                <a:chExt cx="167400" cy="658440"/>
              </a:xfrm>
            </p:grpSpPr>
            <p:sp>
              <p:nvSpPr>
                <p:cNvPr id="494" name=""/>
                <p:cNvSpPr/>
                <p:nvPr/>
              </p:nvSpPr>
              <p:spPr>
                <a:xfrm flipH="1" flipV="1" rot="21345600">
                  <a:off x="1159920" y="31777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rot="609600">
                  <a:off x="1164960" y="299736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 rot="254400">
                  <a:off x="1099080" y="31816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20990400">
                  <a:off x="1103040" y="300024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136520" y="318276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085760" y="2504520"/>
                <a:ext cx="158760" cy="418320"/>
                <a:chOff x="1085760" y="2504520"/>
                <a:chExt cx="158760" cy="418320"/>
              </a:xfrm>
            </p:grpSpPr>
            <p:sp>
              <p:nvSpPr>
                <p:cNvPr id="500" name=""/>
                <p:cNvSpPr/>
                <p:nvPr/>
              </p:nvSpPr>
              <p:spPr>
                <a:xfrm flipH="1" flipV="1" rot="21178800">
                  <a:off x="1158120" y="2702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384600">
                  <a:off x="1158120" y="250776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 rot="421200">
                  <a:off x="1098360" y="27025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1215400">
                  <a:off x="1098360" y="2511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36880" y="267948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3048120" y="2286000"/>
              <a:ext cx="1277640" cy="1404720"/>
              <a:chOff x="3048120" y="2286000"/>
              <a:chExt cx="1277640" cy="1404720"/>
            </a:xfrm>
          </p:grpSpPr>
          <p:sp>
            <p:nvSpPr>
              <p:cNvPr id="506" name=""/>
              <p:cNvSpPr/>
              <p:nvPr/>
            </p:nvSpPr>
            <p:spPr>
              <a:xfrm>
                <a:off x="3048120" y="2286000"/>
                <a:ext cx="127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3138480" y="2428920"/>
                <a:ext cx="1062000" cy="1134720"/>
                <a:chOff x="3138480" y="2428920"/>
                <a:chExt cx="1062000" cy="11347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162600" y="2988360"/>
                  <a:ext cx="1016640" cy="370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162600" y="2878920"/>
                  <a:ext cx="1005840" cy="3960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138480" y="3241440"/>
                  <a:ext cx="1062000" cy="32220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146400" y="2428920"/>
                  <a:ext cx="1048680" cy="26352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64760" y="3054600"/>
                  <a:ext cx="1008720" cy="15444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162600" y="2696400"/>
                  <a:ext cx="1013760" cy="16236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64760" y="2549880"/>
                  <a:ext cx="1014120" cy="2250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151440" y="3134880"/>
                  <a:ext cx="1034280" cy="2530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3616200" y="2498400"/>
              <a:ext cx="159120" cy="418680"/>
              <a:chOff x="3616200" y="2498400"/>
              <a:chExt cx="159120" cy="418680"/>
            </a:xfrm>
          </p:grpSpPr>
          <p:sp>
            <p:nvSpPr>
              <p:cNvPr id="517" name=""/>
              <p:cNvSpPr/>
              <p:nvPr/>
            </p:nvSpPr>
            <p:spPr>
              <a:xfrm flipH="1" flipV="1" rot="21178800">
                <a:off x="3688920" y="26974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rot="384600">
                <a:off x="3688920" y="25016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421200">
                <a:off x="3628800" y="2697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1215400">
                <a:off x="3628800" y="25048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67320" y="26737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611880" y="2980800"/>
              <a:ext cx="167760" cy="659520"/>
              <a:chOff x="3611880" y="2980800"/>
              <a:chExt cx="167760" cy="659520"/>
            </a:xfrm>
          </p:grpSpPr>
          <p:sp>
            <p:nvSpPr>
              <p:cNvPr id="523" name=""/>
              <p:cNvSpPr/>
              <p:nvPr/>
            </p:nvSpPr>
            <p:spPr>
              <a:xfrm flipH="1" flipV="1" rot="21345600">
                <a:off x="3690720" y="316440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rot="609600">
                <a:off x="3695400" y="29844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 rot="254400">
                <a:off x="3629520" y="316908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990400">
                <a:off x="3633840" y="298764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67320" y="317016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971800" y="1752480"/>
              <a:ext cx="45720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14360" y="1822320"/>
              <a:ext cx="171720" cy="5209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066680" y="3174840"/>
            <a:ext cx="6605640" cy="2116080"/>
            <a:chOff x="1066680" y="3174840"/>
            <a:chExt cx="6605640" cy="2116080"/>
          </a:xfrm>
        </p:grpSpPr>
        <p:sp>
          <p:nvSpPr>
            <p:cNvPr id="531" name=""/>
            <p:cNvSpPr/>
            <p:nvPr/>
          </p:nvSpPr>
          <p:spPr>
            <a:xfrm>
              <a:off x="6152040" y="4408560"/>
              <a:ext cx="1520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066680" y="3886200"/>
              <a:ext cx="1277640" cy="1404720"/>
              <a:chOff x="1066680" y="3886200"/>
              <a:chExt cx="1277640" cy="140472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1066680" y="3886200"/>
                <a:ext cx="1277640" cy="1404720"/>
                <a:chOff x="1066680" y="3886200"/>
                <a:chExt cx="1277640" cy="1404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106668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1157040" y="4029120"/>
                  <a:ext cx="1062000" cy="1134720"/>
                  <a:chOff x="1157040" y="4029120"/>
                  <a:chExt cx="1062000" cy="1134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118116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18116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15704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16496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18332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18116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18332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17000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1393200" y="4536360"/>
                <a:ext cx="244080" cy="654480"/>
                <a:chOff x="1393200" y="4536360"/>
                <a:chExt cx="244080" cy="654480"/>
              </a:xfrm>
            </p:grpSpPr>
            <p:sp>
              <p:nvSpPr>
                <p:cNvPr id="545" name=""/>
                <p:cNvSpPr/>
                <p:nvPr/>
              </p:nvSpPr>
              <p:spPr>
                <a:xfrm flipH="1" flipV="1" rot="20297400">
                  <a:off x="148104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rot="1897800">
                  <a:off x="146376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139320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422360" y="4013280"/>
                <a:ext cx="168120" cy="424800"/>
                <a:chOff x="1422360" y="4013280"/>
                <a:chExt cx="168120" cy="42480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19914600">
                  <a:off x="1468440" y="4216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rot="1378800">
                  <a:off x="146880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1424880" y="4209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744560" y="4536360"/>
                <a:ext cx="244080" cy="654480"/>
                <a:chOff x="1744560" y="4536360"/>
                <a:chExt cx="244080" cy="654480"/>
              </a:xfrm>
            </p:grpSpPr>
            <p:sp>
              <p:nvSpPr>
                <p:cNvPr id="553" name=""/>
                <p:cNvSpPr/>
                <p:nvPr/>
              </p:nvSpPr>
              <p:spPr>
                <a:xfrm flipV="1" rot="1302600">
                  <a:off x="182880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9702200">
                  <a:off x="185184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92672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814040" y="4013280"/>
                <a:ext cx="167040" cy="425160"/>
                <a:chOff x="1814040" y="4013280"/>
                <a:chExt cx="167040" cy="425160"/>
              </a:xfrm>
            </p:grpSpPr>
            <p:sp>
              <p:nvSpPr>
                <p:cNvPr id="557" name=""/>
                <p:cNvSpPr/>
                <p:nvPr/>
              </p:nvSpPr>
              <p:spPr>
                <a:xfrm flipV="1" rot="1685400">
                  <a:off x="1860120" y="4217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20221200">
                  <a:off x="186012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17360" y="420984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4648320" y="3886200"/>
              <a:ext cx="1277640" cy="1404720"/>
              <a:chOff x="4648320" y="3886200"/>
              <a:chExt cx="1277640" cy="140472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4648320" y="3886200"/>
                <a:ext cx="1277640" cy="1404720"/>
                <a:chOff x="4648320" y="3886200"/>
                <a:chExt cx="1277640" cy="14047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64832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4738680" y="4029120"/>
                  <a:ext cx="1062000" cy="1134720"/>
                  <a:chOff x="4738680" y="4029120"/>
                  <a:chExt cx="1062000" cy="11347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476280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76280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73868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474660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476496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76280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76496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75164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4990680" y="4017600"/>
                <a:ext cx="209520" cy="421920"/>
                <a:chOff x="4990680" y="4017600"/>
                <a:chExt cx="209520" cy="421920"/>
              </a:xfrm>
            </p:grpSpPr>
            <p:sp>
              <p:nvSpPr>
                <p:cNvPr id="573" name=""/>
                <p:cNvSpPr/>
                <p:nvPr/>
              </p:nvSpPr>
              <p:spPr>
                <a:xfrm rot="1596600">
                  <a:off x="5049360" y="402228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 rot="19309800">
                  <a:off x="5066280" y="42235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4990680" y="421308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975200" y="4556880"/>
                <a:ext cx="267840" cy="639000"/>
                <a:chOff x="4975200" y="4556880"/>
                <a:chExt cx="267840" cy="639000"/>
              </a:xfrm>
            </p:grpSpPr>
            <p:sp>
              <p:nvSpPr>
                <p:cNvPr id="577" name=""/>
                <p:cNvSpPr/>
                <p:nvPr/>
              </p:nvSpPr>
              <p:spPr>
                <a:xfrm flipH="1" flipV="1" rot="20056800">
                  <a:off x="5072760" y="4734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rot="2321400">
                  <a:off x="5046120" y="45525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4975200" y="47354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54640" y="4011480"/>
                <a:ext cx="209520" cy="421920"/>
                <a:chOff x="5354640" y="4011480"/>
                <a:chExt cx="209520" cy="421920"/>
              </a:xfrm>
            </p:grpSpPr>
            <p:sp>
              <p:nvSpPr>
                <p:cNvPr id="581" name=""/>
                <p:cNvSpPr/>
                <p:nvPr/>
              </p:nvSpPr>
              <p:spPr>
                <a:xfrm flipH="1" rot="20003400">
                  <a:off x="5432040" y="40161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 rot="2290200">
                  <a:off x="5412960" y="42174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02240" y="4206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350320" y="4521960"/>
                <a:ext cx="267840" cy="639000"/>
                <a:chOff x="5350320" y="4521960"/>
                <a:chExt cx="267840" cy="6390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 rot="1543200">
                  <a:off x="5447880" y="4699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9278600">
                  <a:off x="5481720" y="45176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556240" y="470052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"/>
            <p:cNvSpPr/>
            <p:nvPr/>
          </p:nvSpPr>
          <p:spPr>
            <a:xfrm>
              <a:off x="4390920" y="3174840"/>
              <a:ext cx="685800" cy="6858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0360" y="3286080"/>
              <a:ext cx="196560" cy="600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901800" y="5257800"/>
            <a:ext cx="7574400" cy="1401840"/>
            <a:chOff x="901800" y="5257800"/>
            <a:chExt cx="7574400" cy="1401840"/>
          </a:xfrm>
        </p:grpSpPr>
        <p:sp>
          <p:nvSpPr>
            <p:cNvPr id="591" name=""/>
            <p:cNvSpPr/>
            <p:nvPr/>
          </p:nvSpPr>
          <p:spPr>
            <a:xfrm>
              <a:off x="19810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018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666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07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3337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17760" y="5932440"/>
              <a:ext cx="1558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412720" y="5893560"/>
              <a:ext cx="86040" cy="332640"/>
              <a:chOff x="2412720" y="5893560"/>
              <a:chExt cx="86040" cy="332640"/>
            </a:xfrm>
          </p:grpSpPr>
          <p:sp>
            <p:nvSpPr>
              <p:cNvPr id="598" name=""/>
              <p:cNvSpPr/>
              <p:nvPr/>
            </p:nvSpPr>
            <p:spPr>
              <a:xfrm flipV="1" rot="421200">
                <a:off x="2422800" y="605124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1215400">
                <a:off x="2422440" y="589608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449080" y="603216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255400" y="5816880"/>
              <a:ext cx="88920" cy="551160"/>
              <a:chOff x="2255400" y="5816880"/>
              <a:chExt cx="88920" cy="551160"/>
            </a:xfrm>
          </p:grpSpPr>
          <p:sp>
            <p:nvSpPr>
              <p:cNvPr id="602" name=""/>
              <p:cNvSpPr/>
              <p:nvPr/>
            </p:nvSpPr>
            <p:spPr>
              <a:xfrm flipV="1" rot="254400">
                <a:off x="2269080" y="597060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0990400">
                <a:off x="2273760" y="581940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96080" y="597492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1371600" y="5858640"/>
              <a:ext cx="86040" cy="332640"/>
              <a:chOff x="1371600" y="5858640"/>
              <a:chExt cx="86040" cy="332640"/>
            </a:xfrm>
          </p:grpSpPr>
          <p:sp>
            <p:nvSpPr>
              <p:cNvPr id="606" name=""/>
              <p:cNvSpPr/>
              <p:nvPr/>
            </p:nvSpPr>
            <p:spPr>
              <a:xfrm flipH="1" flipV="1" rot="21178800">
                <a:off x="1388520" y="601632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rot="384600">
                <a:off x="1388880" y="586116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71600" y="599724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219320" y="5781960"/>
              <a:ext cx="88920" cy="551160"/>
              <a:chOff x="1219320" y="5781960"/>
              <a:chExt cx="88920" cy="551160"/>
            </a:xfrm>
          </p:grpSpPr>
          <p:sp>
            <p:nvSpPr>
              <p:cNvPr id="610" name=""/>
              <p:cNvSpPr/>
              <p:nvPr/>
            </p:nvSpPr>
            <p:spPr>
              <a:xfrm flipH="1" flipV="1" rot="21345600">
                <a:off x="1238400" y="593568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rot="609600">
                <a:off x="1240920" y="5784480"/>
                <a:ext cx="4824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19320" y="594000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386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594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783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6148800" y="5934600"/>
              <a:ext cx="89640" cy="348120"/>
              <a:chOff x="6148800" y="5934600"/>
              <a:chExt cx="89640" cy="348120"/>
            </a:xfrm>
          </p:grpSpPr>
          <p:sp>
            <p:nvSpPr>
              <p:cNvPr id="618" name=""/>
              <p:cNvSpPr/>
              <p:nvPr/>
            </p:nvSpPr>
            <p:spPr>
              <a:xfrm flipV="1" rot="421200">
                <a:off x="615960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1215400">
                <a:off x="61592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894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105880" y="5934600"/>
              <a:ext cx="89640" cy="348120"/>
              <a:chOff x="5105880" y="5934600"/>
              <a:chExt cx="89640" cy="348120"/>
            </a:xfrm>
          </p:grpSpPr>
          <p:sp>
            <p:nvSpPr>
              <p:cNvPr id="622" name=""/>
              <p:cNvSpPr/>
              <p:nvPr/>
            </p:nvSpPr>
            <p:spPr>
              <a:xfrm flipH="1" flipV="1" rot="21178800">
                <a:off x="512568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rot="384600">
                <a:off x="51260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1058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63960" y="5858280"/>
              <a:ext cx="88200" cy="521280"/>
              <a:chOff x="4863960" y="5858280"/>
              <a:chExt cx="88200" cy="521280"/>
            </a:xfrm>
          </p:grpSpPr>
          <p:sp>
            <p:nvSpPr>
              <p:cNvPr id="626" name=""/>
              <p:cNvSpPr/>
              <p:nvPr/>
            </p:nvSpPr>
            <p:spPr>
              <a:xfrm flipH="1" flipV="1" rot="21345600">
                <a:off x="4881240" y="6003720"/>
                <a:ext cx="5616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rot="609600">
                <a:off x="4885200" y="5861160"/>
                <a:ext cx="48600" cy="1778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63960" y="6008760"/>
                <a:ext cx="4860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5917680" y="5858280"/>
              <a:ext cx="87480" cy="520920"/>
              <a:chOff x="5917680" y="5858280"/>
              <a:chExt cx="87480" cy="520920"/>
            </a:xfrm>
          </p:grpSpPr>
          <p:sp>
            <p:nvSpPr>
              <p:cNvPr id="630" name=""/>
              <p:cNvSpPr/>
              <p:nvPr/>
            </p:nvSpPr>
            <p:spPr>
              <a:xfrm flipV="1" rot="254400">
                <a:off x="5930640" y="6004080"/>
                <a:ext cx="55800" cy="3733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990400">
                <a:off x="5935320" y="586116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56920" y="600876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56386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761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810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3170160" y="1512720"/>
            <a:ext cx="1416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960" y="228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that before 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There is no replication of 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ng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student interest and establish the “need to know” to motivate learning using device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vel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v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zzle/Challe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question that can be answered with sc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0600" y="1512720"/>
            <a:ext cx="4572000" cy="3788280"/>
            <a:chOff x="390600" y="1512720"/>
            <a:chExt cx="4572000" cy="3788280"/>
          </a:xfrm>
        </p:grpSpPr>
        <p:grpSp>
          <p:nvGrpSpPr>
            <p:cNvPr id="641" name=""/>
            <p:cNvGrpSpPr/>
            <p:nvPr/>
          </p:nvGrpSpPr>
          <p:grpSpPr>
            <a:xfrm>
              <a:off x="430200" y="1512720"/>
              <a:ext cx="3544200" cy="3788280"/>
              <a:chOff x="430200" y="1512720"/>
              <a:chExt cx="3544200" cy="3788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430200" y="2082960"/>
                <a:ext cx="2911320" cy="3218040"/>
                <a:chOff x="430200" y="2082960"/>
                <a:chExt cx="2911320" cy="321804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9660200">
                  <a:off x="1296720" y="210456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flipV="1" rot="18854400">
                  <a:off x="2251080" y="329616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 rot="19696200">
                  <a:off x="1882080" y="358596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18890400">
                  <a:off x="942120" y="2416320"/>
                  <a:ext cx="58392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9275000">
                  <a:off x="159084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989280" y="1512720"/>
                <a:ext cx="2985120" cy="3168720"/>
                <a:chOff x="989280" y="1512720"/>
                <a:chExt cx="2985120" cy="3168720"/>
              </a:xfrm>
            </p:grpSpPr>
            <p:sp>
              <p:nvSpPr>
                <p:cNvPr id="649" name=""/>
                <p:cNvSpPr/>
                <p:nvPr/>
              </p:nvSpPr>
              <p:spPr>
                <a:xfrm rot="18730200">
                  <a:off x="1518480" y="18514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flipV="1" rot="18694200">
                  <a:off x="2867040" y="266832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rot="19500000">
                  <a:off x="1857240" y="152388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 rot="19536000">
                  <a:off x="251316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9114800">
                  <a:off x="218124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"/>
            <p:cNvGrpSpPr/>
            <p:nvPr/>
          </p:nvGrpSpPr>
          <p:grpSpPr>
            <a:xfrm>
              <a:off x="390600" y="1523880"/>
              <a:ext cx="4572000" cy="3662640"/>
              <a:chOff x="390600" y="1523880"/>
              <a:chExt cx="4572000" cy="36626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390600" y="152892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383000" y="1528920"/>
                <a:ext cx="579600" cy="5792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51160" y="152388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848040" y="1925280"/>
                <a:ext cx="1108080" cy="225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657600" y="1447920"/>
            <a:ext cx="1828800" cy="2867040"/>
            <a:chOff x="3657600" y="1447920"/>
            <a:chExt cx="1828800" cy="2867040"/>
          </a:xfrm>
        </p:grpSpPr>
        <p:sp>
          <p:nvSpPr>
            <p:cNvPr id="660" name=""/>
            <p:cNvSpPr/>
            <p:nvPr/>
          </p:nvSpPr>
          <p:spPr>
            <a:xfrm>
              <a:off x="3657600" y="3032280"/>
              <a:ext cx="1828800" cy="1282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trad formation/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ossing o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10240" y="1447920"/>
              <a:ext cx="1523880" cy="1676160"/>
              <a:chOff x="3810240" y="1447920"/>
              <a:chExt cx="1523880" cy="1676160"/>
            </a:xfrm>
          </p:grpSpPr>
          <p:sp>
            <p:nvSpPr>
              <p:cNvPr id="662" name=""/>
              <p:cNvSpPr/>
              <p:nvPr/>
            </p:nvSpPr>
            <p:spPr>
              <a:xfrm>
                <a:off x="3810240" y="144792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4191840" y="2250360"/>
                <a:ext cx="381240" cy="654120"/>
                <a:chOff x="4191840" y="2250360"/>
                <a:chExt cx="381240" cy="65412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flipV="1" rot="984600">
                  <a:off x="4345920" y="2433240"/>
                  <a:ext cx="7128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1848600">
                  <a:off x="4458240" y="2272680"/>
                  <a:ext cx="615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 rot="1492800">
                  <a:off x="4286880" y="24159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629400">
                  <a:off x="4399200" y="225432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1239000">
                  <a:off x="4397400" y="24418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300920" y="2287800"/>
                <a:ext cx="366120" cy="655200"/>
                <a:chOff x="4300920" y="2287800"/>
                <a:chExt cx="366120" cy="65520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flipV="1" rot="889200">
                  <a:off x="4450680" y="247104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rot="1753200">
                  <a:off x="4554000" y="230760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 rot="1398000">
                  <a:off x="4390560" y="24555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534000">
                  <a:off x="4494960" y="229140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1143600">
                  <a:off x="4496400" y="2478960"/>
                  <a:ext cx="6156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4453560" y="1676160"/>
                <a:ext cx="372240" cy="411840"/>
                <a:chOff x="4453560" y="1676160"/>
                <a:chExt cx="372240" cy="411840"/>
              </a:xfrm>
            </p:grpSpPr>
            <p:sp>
              <p:nvSpPr>
                <p:cNvPr id="676" name=""/>
                <p:cNvSpPr/>
                <p:nvPr/>
              </p:nvSpPr>
              <p:spPr>
                <a:xfrm flipH="1" flipV="1" rot="18853800">
                  <a:off x="4686120" y="18306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rot="19659000">
                  <a:off x="4563720" y="167868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 rot="19696200">
                  <a:off x="4638960" y="186804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8890400">
                  <a:off x="4519080" y="17182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9275000">
                  <a:off x="4601880" y="184860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525200" y="1603440"/>
                <a:ext cx="381600" cy="405000"/>
                <a:chOff x="4525200" y="1603440"/>
                <a:chExt cx="381600" cy="405000"/>
              </a:xfrm>
            </p:grpSpPr>
            <p:sp>
              <p:nvSpPr>
                <p:cNvPr id="682" name=""/>
                <p:cNvSpPr/>
                <p:nvPr/>
              </p:nvSpPr>
              <p:spPr>
                <a:xfrm flipH="1" flipV="1" rot="18693600">
                  <a:off x="4764960" y="174996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rot="19499400">
                  <a:off x="4635720" y="1604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 rot="19536000">
                  <a:off x="4719600" y="1790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8730200">
                  <a:off x="4592880" y="1646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9114800">
                  <a:off x="4677480" y="177300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7" name=""/>
          <p:cNvGrpSpPr/>
          <p:nvPr/>
        </p:nvGrpSpPr>
        <p:grpSpPr>
          <a:xfrm>
            <a:off x="390240" y="1512360"/>
            <a:ext cx="4572000" cy="3787920"/>
            <a:chOff x="390240" y="1512360"/>
            <a:chExt cx="4572000" cy="3787920"/>
          </a:xfrm>
        </p:grpSpPr>
        <p:grpSp>
          <p:nvGrpSpPr>
            <p:cNvPr id="688" name=""/>
            <p:cNvGrpSpPr/>
            <p:nvPr/>
          </p:nvGrpSpPr>
          <p:grpSpPr>
            <a:xfrm>
              <a:off x="420480" y="1512360"/>
              <a:ext cx="3543840" cy="3787920"/>
              <a:chOff x="420480" y="1512360"/>
              <a:chExt cx="3543840" cy="378792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420480" y="2082960"/>
                <a:ext cx="2910960" cy="3217320"/>
                <a:chOff x="420480" y="2082960"/>
                <a:chExt cx="2910960" cy="321732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880200" y="2082960"/>
                  <a:ext cx="1385280" cy="1731240"/>
                  <a:chOff x="880200" y="2082960"/>
                  <a:chExt cx="1385280" cy="17312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rot="19660200">
                    <a:off x="1287000" y="2104560"/>
                    <a:ext cx="57132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002960" y="2214360"/>
                    <a:ext cx="63972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 flipH="1" flipV="1" rot="18854400">
                  <a:off x="2241720" y="32954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 rot="19696200">
                  <a:off x="1872720" y="358524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18890400">
                  <a:off x="932400" y="24166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rot="19275000">
                  <a:off x="158076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979200" y="1512360"/>
                <a:ext cx="2985120" cy="3169080"/>
                <a:chOff x="979200" y="1512360"/>
                <a:chExt cx="2985120" cy="316908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979200" y="1912320"/>
                  <a:ext cx="1642680" cy="1565640"/>
                  <a:chOff x="979200" y="1912320"/>
                  <a:chExt cx="1642680" cy="156564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18730200">
                    <a:off x="1508400" y="1851120"/>
                    <a:ext cx="583920" cy="16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1133280" y="2062080"/>
                    <a:ext cx="66672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 flipH="1" flipV="1" rot="18694200">
                  <a:off x="2857320" y="26690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9500000">
                  <a:off x="1846440" y="152352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 rot="19536000">
                  <a:off x="250308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19114800">
                  <a:off x="217152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390240" y="1519200"/>
              <a:ext cx="4572000" cy="3662280"/>
              <a:chOff x="390240" y="1519200"/>
              <a:chExt cx="4572000" cy="36622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390240" y="152388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82640" y="1523880"/>
                <a:ext cx="579600" cy="57960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50800" y="151920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863520" y="1920600"/>
                <a:ext cx="1092240" cy="22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7282080" y="1905120"/>
            <a:ext cx="1863360" cy="2338920"/>
            <a:chOff x="7282080" y="1905120"/>
            <a:chExt cx="1863360" cy="2338920"/>
          </a:xfrm>
        </p:grpSpPr>
        <p:grpSp>
          <p:nvGrpSpPr>
            <p:cNvPr id="711" name=""/>
            <p:cNvGrpSpPr/>
            <p:nvPr/>
          </p:nvGrpSpPr>
          <p:grpSpPr>
            <a:xfrm>
              <a:off x="7282080" y="2209680"/>
              <a:ext cx="1863360" cy="2034360"/>
              <a:chOff x="7282080" y="2209680"/>
              <a:chExt cx="1863360" cy="2034360"/>
            </a:xfrm>
          </p:grpSpPr>
          <p:sp>
            <p:nvSpPr>
              <p:cNvPr id="712" name=""/>
              <p:cNvSpPr/>
              <p:nvPr/>
            </p:nvSpPr>
            <p:spPr>
              <a:xfrm>
                <a:off x="7282080" y="3784320"/>
                <a:ext cx="18633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n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391160" y="2209680"/>
                <a:ext cx="1523520" cy="1676160"/>
                <a:chOff x="7391160" y="2209680"/>
                <a:chExt cx="1523520" cy="16761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391160" y="2209680"/>
                  <a:ext cx="152352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5" name=""/>
                <p:cNvGrpSpPr/>
                <p:nvPr/>
              </p:nvGrpSpPr>
              <p:grpSpPr>
                <a:xfrm>
                  <a:off x="7498800" y="2381040"/>
                  <a:ext cx="1266480" cy="1352520"/>
                  <a:chOff x="7498800" y="2381040"/>
                  <a:chExt cx="1266480" cy="13525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527240" y="3047760"/>
                    <a:ext cx="1212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527240" y="2917440"/>
                    <a:ext cx="119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98800" y="3349440"/>
                    <a:ext cx="12664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7508160" y="2381040"/>
                    <a:ext cx="12506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530120" y="3126960"/>
                    <a:ext cx="12031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527240" y="2700000"/>
                    <a:ext cx="120924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530120" y="2525400"/>
                    <a:ext cx="12096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514280" y="3222360"/>
                    <a:ext cx="12333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785720" y="3037320"/>
                  <a:ext cx="208800" cy="679680"/>
                  <a:chOff x="7785720" y="3037320"/>
                  <a:chExt cx="208800" cy="67968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flipH="1" flipV="1" rot="20775600">
                    <a:off x="7867800" y="3241080"/>
                    <a:ext cx="7128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rot="1745400">
                    <a:off x="7875720" y="303804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21281400">
                    <a:off x="7806960" y="324540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rot="546000">
                    <a:off x="7814160" y="304128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806600" y="3230280"/>
                    <a:ext cx="6192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8227440" y="3024360"/>
                  <a:ext cx="221040" cy="685800"/>
                  <a:chOff x="8227440" y="3024360"/>
                  <a:chExt cx="221040" cy="685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H="1" flipV="1" rot="241800">
                    <a:off x="8360280" y="323424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 rot="20617200">
                    <a:off x="8349840" y="302832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V="1" rot="732000">
                    <a:off x="8298720" y="3240000"/>
                    <a:ext cx="7128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9408200">
                    <a:off x="8287560" y="303192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368560" y="3227040"/>
                    <a:ext cx="61920" cy="446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8238960" y="2541960"/>
                  <a:ext cx="234720" cy="433080"/>
                  <a:chOff x="8238960" y="2541960"/>
                  <a:chExt cx="234720" cy="433080"/>
                </a:xfrm>
              </p:grpSpPr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8321400" y="2541960"/>
                    <a:ext cx="152280" cy="228600"/>
                    <a:chOff x="8321400" y="2541960"/>
                    <a:chExt cx="152280" cy="22860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rot="20226000">
                      <a:off x="8360280" y="2547360"/>
                      <a:ext cx="734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565800">
                      <a:off x="8333640" y="2556720"/>
                      <a:ext cx="817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3" h="425">
                          <a:moveTo>
                            <a:pt x="90" y="38"/>
                          </a:moveTo>
                          <a:cubicBezTo>
                            <a:pt x="66" y="55"/>
                            <a:pt x="33" y="80"/>
                            <a:pt x="19" y="107"/>
                          </a:cubicBezTo>
                          <a:cubicBezTo>
                            <a:pt x="4" y="132"/>
                            <a:pt x="0" y="164"/>
                            <a:pt x="6" y="192"/>
                          </a:cubicBezTo>
                          <a:cubicBezTo>
                            <a:pt x="10" y="219"/>
                            <a:pt x="24" y="239"/>
                            <a:pt x="47" y="275"/>
                          </a:cubicBezTo>
                          <a:cubicBezTo>
                            <a:pt x="70" y="309"/>
                            <a:pt x="120" y="383"/>
                            <a:pt x="144" y="405"/>
                          </a:cubicBezTo>
                          <a:cubicBezTo>
                            <a:pt x="166" y="425"/>
                            <a:pt x="149" y="419"/>
                            <a:pt x="183" y="402"/>
                          </a:cubicBezTo>
                          <a:cubicBezTo>
                            <a:pt x="217" y="384"/>
                            <a:pt x="308" y="319"/>
                            <a:pt x="344" y="296"/>
                          </a:cubicBezTo>
                          <a:cubicBezTo>
                            <a:pt x="379" y="272"/>
                            <a:pt x="388" y="268"/>
                            <a:pt x="396" y="259"/>
                          </a:cubicBezTo>
                          <a:cubicBezTo>
                            <a:pt x="403" y="249"/>
                            <a:pt x="394" y="247"/>
                            <a:pt x="390" y="237"/>
                          </a:cubicBezTo>
                          <a:cubicBezTo>
                            <a:pt x="385" y="226"/>
                            <a:pt x="381" y="220"/>
                            <a:pt x="370" y="197"/>
                          </a:cubicBezTo>
                          <a:cubicBezTo>
                            <a:pt x="358" y="173"/>
                            <a:pt x="337" y="124"/>
                            <a:pt x="319" y="96"/>
                          </a:cubicBezTo>
                          <a:cubicBezTo>
                            <a:pt x="300" y="67"/>
                            <a:pt x="285" y="38"/>
                            <a:pt x="259" y="23"/>
                          </a:cubicBezTo>
                          <a:cubicBezTo>
                            <a:pt x="232" y="7"/>
                            <a:pt x="189" y="0"/>
                            <a:pt x="160" y="4"/>
                          </a:cubicBezTo>
                          <a:cubicBezTo>
                            <a:pt x="131" y="7"/>
                            <a:pt x="113" y="20"/>
                            <a:pt x="90" y="3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960" bIns="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" name=""/>
                  <p:cNvSpPr/>
                  <p:nvPr/>
                </p:nvSpPr>
                <p:spPr>
                  <a:xfrm flipH="1" flipV="1" rot="1369200">
                    <a:off x="8357040" y="2751480"/>
                    <a:ext cx="727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V="1" rot="2199000">
                    <a:off x="8298000" y="2735280"/>
                    <a:ext cx="75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9448400">
                    <a:off x="8295480" y="2555640"/>
                    <a:ext cx="74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77000">
                    <a:off x="8390160" y="2728800"/>
                    <a:ext cx="6156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7769520" y="2555280"/>
                  <a:ext cx="214920" cy="439560"/>
                  <a:chOff x="7769520" y="2555280"/>
                  <a:chExt cx="214920" cy="43956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7769520" y="2555280"/>
                    <a:ext cx="133920" cy="228960"/>
                    <a:chOff x="7769520" y="2555280"/>
                    <a:chExt cx="133920" cy="2289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rot="846600">
                      <a:off x="7794720" y="2561040"/>
                      <a:ext cx="7488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rot="3716400">
                      <a:off x="7802280" y="2570760"/>
                      <a:ext cx="856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421">
                          <a:moveTo>
                            <a:pt x="60" y="65"/>
                          </a:moveTo>
                          <a:cubicBezTo>
                            <a:pt x="41" y="87"/>
                            <a:pt x="15" y="120"/>
                            <a:pt x="8" y="149"/>
                          </a:cubicBezTo>
                          <a:cubicBezTo>
                            <a:pt x="0" y="177"/>
                            <a:pt x="4" y="209"/>
                            <a:pt x="16" y="235"/>
                          </a:cubicBezTo>
                          <a:cubicBezTo>
                            <a:pt x="27" y="260"/>
                            <a:pt x="45" y="276"/>
                            <a:pt x="76" y="305"/>
                          </a:cubicBezTo>
                          <a:cubicBezTo>
                            <a:pt x="107" y="333"/>
                            <a:pt x="174" y="392"/>
                            <a:pt x="202" y="407"/>
                          </a:cubicBezTo>
                          <a:cubicBezTo>
                            <a:pt x="229" y="421"/>
                            <a:pt x="211" y="420"/>
                            <a:pt x="240" y="395"/>
                          </a:cubicBezTo>
                          <a:cubicBezTo>
                            <a:pt x="268" y="369"/>
                            <a:pt x="341" y="285"/>
                            <a:pt x="370" y="253"/>
                          </a:cubicBezTo>
                          <a:cubicBezTo>
                            <a:pt x="398" y="220"/>
                            <a:pt x="407" y="209"/>
                            <a:pt x="414" y="197"/>
                          </a:cubicBezTo>
                          <a:cubicBezTo>
                            <a:pt x="420" y="184"/>
                            <a:pt x="412" y="187"/>
                            <a:pt x="406" y="179"/>
                          </a:cubicBezTo>
                          <a:cubicBezTo>
                            <a:pt x="399" y="170"/>
                            <a:pt x="392" y="163"/>
                            <a:pt x="374" y="145"/>
                          </a:cubicBezTo>
                          <a:cubicBezTo>
                            <a:pt x="355" y="126"/>
                            <a:pt x="321" y="87"/>
                            <a:pt x="296" y="65"/>
                          </a:cubicBezTo>
                          <a:cubicBezTo>
                            <a:pt x="270" y="42"/>
                            <a:pt x="249" y="17"/>
                            <a:pt x="220" y="9"/>
                          </a:cubicBezTo>
                          <a:cubicBezTo>
                            <a:pt x="190" y="0"/>
                            <a:pt x="147" y="4"/>
                            <a:pt x="120" y="15"/>
                          </a:cubicBezTo>
                          <a:cubicBezTo>
                            <a:pt x="92" y="25"/>
                            <a:pt x="78" y="42"/>
                            <a:pt x="60" y="65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 flipH="1" flipV="1" rot="19855200">
                    <a:off x="7861680" y="2769480"/>
                    <a:ext cx="74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 rot="1599000">
                    <a:off x="7859520" y="2563560"/>
                    <a:ext cx="7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20697000">
                    <a:off x="7801560" y="2770920"/>
                    <a:ext cx="74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6800">
                    <a:off x="7796520" y="2747880"/>
                    <a:ext cx="6156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"/>
            <p:cNvSpPr/>
            <p:nvPr/>
          </p:nvSpPr>
          <p:spPr>
            <a:xfrm>
              <a:off x="7315200" y="1905120"/>
              <a:ext cx="609480" cy="3045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181480" y="1523880"/>
            <a:ext cx="2446560" cy="2034720"/>
            <a:chOff x="5181480" y="1523880"/>
            <a:chExt cx="2446560" cy="2034720"/>
          </a:xfrm>
        </p:grpSpPr>
        <p:grpSp>
          <p:nvGrpSpPr>
            <p:cNvPr id="754" name=""/>
            <p:cNvGrpSpPr/>
            <p:nvPr/>
          </p:nvGrpSpPr>
          <p:grpSpPr>
            <a:xfrm>
              <a:off x="5591160" y="1523880"/>
              <a:ext cx="2036880" cy="2034720"/>
              <a:chOff x="5591160" y="1523880"/>
              <a:chExt cx="2036880" cy="2034720"/>
            </a:xfrm>
          </p:grpSpPr>
          <p:sp>
            <p:nvSpPr>
              <p:cNvPr id="755" name=""/>
              <p:cNvSpPr/>
              <p:nvPr/>
            </p:nvSpPr>
            <p:spPr>
              <a:xfrm>
                <a:off x="5591160" y="3098880"/>
                <a:ext cx="2036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t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806800" y="1523880"/>
                <a:ext cx="1523880" cy="1676520"/>
                <a:chOff x="5806800" y="1523880"/>
                <a:chExt cx="1523880" cy="16765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806800" y="1523880"/>
                  <a:ext cx="1523880" cy="167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5914800" y="1695600"/>
                  <a:ext cx="1266840" cy="1352520"/>
                  <a:chOff x="5914800" y="1695600"/>
                  <a:chExt cx="1266840" cy="135252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5943600" y="236232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943600" y="223200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914800" y="266400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924520" y="169560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946480" y="244152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943600" y="201456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946480" y="183996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930640" y="253692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415200" y="1816200"/>
                  <a:ext cx="282240" cy="1243080"/>
                  <a:chOff x="6415200" y="1816200"/>
                  <a:chExt cx="282240" cy="12430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6415200" y="2399760"/>
                    <a:ext cx="167400" cy="659520"/>
                    <a:chOff x="6415200" y="2399760"/>
                    <a:chExt cx="167400" cy="6595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flipH="1" flipV="1" rot="21345600">
                      <a:off x="649368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 rot="609600">
                      <a:off x="6498360" y="2403360"/>
                      <a:ext cx="615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flipV="1" rot="254400">
                      <a:off x="643284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20990400">
                      <a:off x="6436800" y="2406600"/>
                      <a:ext cx="6480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6470280" y="2589120"/>
                      <a:ext cx="61560" cy="4464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6491160" y="2399760"/>
                    <a:ext cx="167760" cy="659520"/>
                    <a:chOff x="6491160" y="2399760"/>
                    <a:chExt cx="167760" cy="6595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flipH="1" flipV="1" rot="21345600">
                      <a:off x="657000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flipH="1" rot="609600">
                      <a:off x="6574680" y="2403360"/>
                      <a:ext cx="6192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flipV="1" rot="254400">
                      <a:off x="650880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20990400">
                      <a:off x="6513120" y="24066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6546600" y="25891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6419160" y="1816200"/>
                    <a:ext cx="278280" cy="430560"/>
                    <a:chOff x="6419160" y="1816200"/>
                    <a:chExt cx="278280" cy="430560"/>
                  </a:xfrm>
                </p:grpSpPr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6419160" y="1819800"/>
                      <a:ext cx="195120" cy="426960"/>
                      <a:chOff x="6419160" y="1819800"/>
                      <a:chExt cx="195120" cy="426960"/>
                    </a:xfrm>
                  </p:grpSpPr>
                  <p:grpSp>
                    <p:nvGrpSpPr>
                      <p:cNvPr id="782" name=""/>
                      <p:cNvGrpSpPr/>
                      <p:nvPr/>
                    </p:nvGrpSpPr>
                    <p:grpSpPr>
                      <a:xfrm>
                        <a:off x="6490800" y="1819800"/>
                        <a:ext cx="123480" cy="232200"/>
                        <a:chOff x="6490800" y="1819800"/>
                        <a:chExt cx="123480" cy="232200"/>
                      </a:xfrm>
                    </p:grpSpPr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 flipH="1" rot="562200">
                          <a:off x="6507360" y="1830240"/>
                          <a:ext cx="73440" cy="21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 rot="2502000">
                          <a:off x="6513120" y="1836000"/>
                          <a:ext cx="82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25">
                              <a:moveTo>
                                <a:pt x="90" y="38"/>
                              </a:moveTo>
                              <a:cubicBezTo>
                                <a:pt x="66" y="55"/>
                                <a:pt x="33" y="80"/>
                                <a:pt x="19" y="107"/>
                              </a:cubicBezTo>
                              <a:cubicBezTo>
                                <a:pt x="4" y="132"/>
                                <a:pt x="0" y="164"/>
                                <a:pt x="6" y="192"/>
                              </a:cubicBezTo>
                              <a:cubicBezTo>
                                <a:pt x="10" y="219"/>
                                <a:pt x="24" y="239"/>
                                <a:pt x="47" y="275"/>
                              </a:cubicBezTo>
                              <a:cubicBezTo>
                                <a:pt x="70" y="309"/>
                                <a:pt x="120" y="383"/>
                                <a:pt x="144" y="405"/>
                              </a:cubicBezTo>
                              <a:cubicBezTo>
                                <a:pt x="166" y="425"/>
                                <a:pt x="149" y="419"/>
                                <a:pt x="183" y="402"/>
                              </a:cubicBezTo>
                              <a:cubicBezTo>
                                <a:pt x="217" y="384"/>
                                <a:pt x="308" y="319"/>
                                <a:pt x="344" y="296"/>
                              </a:cubicBezTo>
                              <a:cubicBezTo>
                                <a:pt x="379" y="272"/>
                                <a:pt x="388" y="268"/>
                                <a:pt x="396" y="259"/>
                              </a:cubicBezTo>
                              <a:cubicBezTo>
                                <a:pt x="403" y="249"/>
                                <a:pt x="394" y="247"/>
                                <a:pt x="390" y="237"/>
                              </a:cubicBezTo>
                              <a:cubicBezTo>
                                <a:pt x="385" y="226"/>
                                <a:pt x="381" y="220"/>
                                <a:pt x="370" y="197"/>
                              </a:cubicBezTo>
                              <a:cubicBezTo>
                                <a:pt x="358" y="173"/>
                                <a:pt x="337" y="124"/>
                                <a:pt x="319" y="96"/>
                              </a:cubicBezTo>
                              <a:cubicBezTo>
                                <a:pt x="300" y="67"/>
                                <a:pt x="285" y="38"/>
                                <a:pt x="259" y="23"/>
                              </a:cubicBezTo>
                              <a:cubicBezTo>
                                <a:pt x="232" y="7"/>
                                <a:pt x="189" y="0"/>
                                <a:pt x="160" y="4"/>
                              </a:cubicBezTo>
                              <a:cubicBezTo>
                                <a:pt x="131" y="7"/>
                                <a:pt x="113" y="20"/>
                                <a:pt x="90" y="3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85" name=""/>
                      <p:cNvSpPr/>
                      <p:nvPr/>
                    </p:nvSpPr>
                    <p:spPr>
                      <a:xfrm flipH="1" flipV="1" rot="21356400">
                        <a:off x="6498000" y="2026440"/>
                        <a:ext cx="7344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V="1" rot="597600">
                        <a:off x="6437160" y="202356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rot="21392400">
                        <a:off x="6447240" y="1830600"/>
                        <a:ext cx="748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rot="177000">
                        <a:off x="6481440" y="200088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9" name=""/>
                    <p:cNvGrpSpPr/>
                    <p:nvPr/>
                  </p:nvGrpSpPr>
                  <p:grpSpPr>
                    <a:xfrm>
                      <a:off x="6520680" y="1816200"/>
                      <a:ext cx="176760" cy="424440"/>
                      <a:chOff x="6520680" y="1816200"/>
                      <a:chExt cx="176760" cy="424440"/>
                    </a:xfrm>
                  </p:grpSpPr>
                  <p:grpSp>
                    <p:nvGrpSpPr>
                      <p:cNvPr id="790" name=""/>
                      <p:cNvGrpSpPr/>
                      <p:nvPr/>
                    </p:nvGrpSpPr>
                    <p:grpSpPr>
                      <a:xfrm>
                        <a:off x="6520680" y="1816200"/>
                        <a:ext cx="121320" cy="230400"/>
                        <a:chOff x="6520680" y="1816200"/>
                        <a:chExt cx="121320" cy="230400"/>
                      </a:xfrm>
                    </p:grpSpPr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rot="21232800">
                          <a:off x="6550560" y="1825200"/>
                          <a:ext cx="75240" cy="21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 rot="2502000">
                          <a:off x="6538320" y="1833840"/>
                          <a:ext cx="8604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0" h="421">
                              <a:moveTo>
                                <a:pt x="60" y="65"/>
                              </a:moveTo>
                              <a:cubicBezTo>
                                <a:pt x="41" y="87"/>
                                <a:pt x="15" y="120"/>
                                <a:pt x="8" y="149"/>
                              </a:cubicBezTo>
                              <a:cubicBezTo>
                                <a:pt x="0" y="177"/>
                                <a:pt x="4" y="209"/>
                                <a:pt x="16" y="235"/>
                              </a:cubicBezTo>
                              <a:cubicBezTo>
                                <a:pt x="27" y="260"/>
                                <a:pt x="45" y="276"/>
                                <a:pt x="76" y="305"/>
                              </a:cubicBezTo>
                              <a:cubicBezTo>
                                <a:pt x="107" y="333"/>
                                <a:pt x="174" y="392"/>
                                <a:pt x="202" y="407"/>
                              </a:cubicBezTo>
                              <a:cubicBezTo>
                                <a:pt x="229" y="421"/>
                                <a:pt x="211" y="420"/>
                                <a:pt x="240" y="395"/>
                              </a:cubicBezTo>
                              <a:cubicBezTo>
                                <a:pt x="268" y="369"/>
                                <a:pt x="341" y="285"/>
                                <a:pt x="370" y="253"/>
                              </a:cubicBezTo>
                              <a:cubicBezTo>
                                <a:pt x="398" y="220"/>
                                <a:pt x="407" y="209"/>
                                <a:pt x="414" y="197"/>
                              </a:cubicBezTo>
                              <a:cubicBezTo>
                                <a:pt x="420" y="184"/>
                                <a:pt x="412" y="187"/>
                                <a:pt x="406" y="179"/>
                              </a:cubicBezTo>
                              <a:cubicBezTo>
                                <a:pt x="399" y="170"/>
                                <a:pt x="392" y="163"/>
                                <a:pt x="374" y="145"/>
                              </a:cubicBezTo>
                              <a:cubicBezTo>
                                <a:pt x="355" y="126"/>
                                <a:pt x="321" y="87"/>
                                <a:pt x="296" y="65"/>
                              </a:cubicBezTo>
                              <a:cubicBezTo>
                                <a:pt x="270" y="42"/>
                                <a:pt x="249" y="17"/>
                                <a:pt x="220" y="9"/>
                              </a:cubicBezTo>
                              <a:cubicBezTo>
                                <a:pt x="190" y="0"/>
                                <a:pt x="147" y="4"/>
                                <a:pt x="120" y="15"/>
                              </a:cubicBezTo>
                              <a:cubicBezTo>
                                <a:pt x="92" y="25"/>
                                <a:pt x="78" y="42"/>
                                <a:pt x="60" y="65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240" bIns="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3" name=""/>
                      <p:cNvSpPr/>
                      <p:nvPr/>
                    </p:nvSpPr>
                    <p:spPr>
                      <a:xfrm flipH="1" flipV="1" rot="21196200">
                        <a:off x="6610320" y="2018520"/>
                        <a:ext cx="73440" cy="21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 flipH="1" rot="401400">
                        <a:off x="6611040" y="1822680"/>
                        <a:ext cx="7380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 flipV="1" rot="438000">
                        <a:off x="6549480" y="201888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 rot="16800">
                        <a:off x="6588360" y="199476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797" name=""/>
            <p:cNvSpPr/>
            <p:nvPr/>
          </p:nvSpPr>
          <p:spPr>
            <a:xfrm>
              <a:off x="5181480" y="1676520"/>
              <a:ext cx="76212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029200" y="4343400"/>
            <a:ext cx="3611520" cy="1577880"/>
            <a:chOff x="5029200" y="4343400"/>
            <a:chExt cx="3611520" cy="1577880"/>
          </a:xfrm>
        </p:grpSpPr>
        <p:sp>
          <p:nvSpPr>
            <p:cNvPr id="799" name=""/>
            <p:cNvSpPr/>
            <p:nvPr/>
          </p:nvSpPr>
          <p:spPr>
            <a:xfrm>
              <a:off x="5983560" y="5095800"/>
              <a:ext cx="18342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543800" y="4343400"/>
              <a:ext cx="1096920" cy="1295280"/>
              <a:chOff x="7543800" y="4343400"/>
              <a:chExt cx="1096920" cy="1295280"/>
            </a:xfrm>
          </p:grpSpPr>
          <p:sp>
            <p:nvSpPr>
              <p:cNvPr id="801" name=""/>
              <p:cNvSpPr/>
              <p:nvPr/>
            </p:nvSpPr>
            <p:spPr>
              <a:xfrm>
                <a:off x="75438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060040" y="4720680"/>
                <a:ext cx="167760" cy="658440"/>
                <a:chOff x="8060040" y="4720680"/>
                <a:chExt cx="167760" cy="658440"/>
              </a:xfrm>
            </p:grpSpPr>
            <p:sp>
              <p:nvSpPr>
                <p:cNvPr id="803" name=""/>
                <p:cNvSpPr/>
                <p:nvPr/>
              </p:nvSpPr>
              <p:spPr>
                <a:xfrm flipH="1" flipV="1" rot="21345600">
                  <a:off x="813888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609600">
                  <a:off x="8143560" y="47242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 rot="254400">
                  <a:off x="80776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20990400">
                  <a:off x="8082000" y="472716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115480" y="490968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873920" y="4787280"/>
                <a:ext cx="195120" cy="427320"/>
                <a:chOff x="7873920" y="4787280"/>
                <a:chExt cx="195120" cy="42732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7945560" y="4787280"/>
                  <a:ext cx="123480" cy="232200"/>
                  <a:chOff x="7945560" y="4787280"/>
                  <a:chExt cx="123480" cy="2322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562200">
                    <a:off x="7962120" y="4797720"/>
                    <a:ext cx="7344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2502000">
                    <a:off x="7967880" y="4803480"/>
                    <a:ext cx="8244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"/>
                <p:cNvSpPr/>
                <p:nvPr/>
              </p:nvSpPr>
              <p:spPr>
                <a:xfrm flipH="1" flipV="1" rot="21356400">
                  <a:off x="7952400" y="4994280"/>
                  <a:ext cx="7344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 rot="597600">
                  <a:off x="7891920" y="499104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21392400">
                  <a:off x="7901640" y="4798080"/>
                  <a:ext cx="7488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177000">
                  <a:off x="7936200" y="4968720"/>
                  <a:ext cx="6228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6" name=""/>
            <p:cNvGrpSpPr/>
            <p:nvPr/>
          </p:nvGrpSpPr>
          <p:grpSpPr>
            <a:xfrm>
              <a:off x="5029200" y="4343400"/>
              <a:ext cx="1096920" cy="1295280"/>
              <a:chOff x="5029200" y="4343400"/>
              <a:chExt cx="1096920" cy="1295280"/>
            </a:xfrm>
          </p:grpSpPr>
          <p:sp>
            <p:nvSpPr>
              <p:cNvPr id="817" name=""/>
              <p:cNvSpPr/>
              <p:nvPr/>
            </p:nvSpPr>
            <p:spPr>
              <a:xfrm>
                <a:off x="50292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5545440" y="4720680"/>
                <a:ext cx="167400" cy="658440"/>
                <a:chOff x="5545440" y="4720680"/>
                <a:chExt cx="167400" cy="658440"/>
              </a:xfrm>
            </p:grpSpPr>
            <p:sp>
              <p:nvSpPr>
                <p:cNvPr id="819" name=""/>
                <p:cNvSpPr/>
                <p:nvPr/>
              </p:nvSpPr>
              <p:spPr>
                <a:xfrm flipH="1" flipV="1" rot="21345600">
                  <a:off x="562392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609600">
                  <a:off x="5628960" y="472428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 rot="254400">
                  <a:off x="55630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20990400">
                  <a:off x="5567040" y="472716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600520" y="49096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55360" y="4864680"/>
                <a:ext cx="176040" cy="423720"/>
                <a:chOff x="5355360" y="4864680"/>
                <a:chExt cx="176040" cy="42372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5355360" y="4864680"/>
                  <a:ext cx="121320" cy="230040"/>
                  <a:chOff x="5355360" y="4864680"/>
                  <a:chExt cx="121320" cy="2300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1232800">
                    <a:off x="5384880" y="4873680"/>
                    <a:ext cx="75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502000">
                    <a:off x="5373000" y="4881960"/>
                    <a:ext cx="856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" name=""/>
                <p:cNvSpPr/>
                <p:nvPr/>
              </p:nvSpPr>
              <p:spPr>
                <a:xfrm flipH="1" flipV="1" rot="21196200">
                  <a:off x="5444640" y="5066640"/>
                  <a:ext cx="73440" cy="217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401400">
                  <a:off x="5445000" y="4870800"/>
                  <a:ext cx="734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 rot="438000">
                  <a:off x="5383800" y="506700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6800">
                  <a:off x="5423040" y="5042880"/>
                  <a:ext cx="6228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2" name=""/>
          <p:cNvGrpSpPr/>
          <p:nvPr/>
        </p:nvGrpSpPr>
        <p:grpSpPr>
          <a:xfrm>
            <a:off x="6019920" y="3657600"/>
            <a:ext cx="1659960" cy="914400"/>
            <a:chOff x="6019920" y="3657600"/>
            <a:chExt cx="1659960" cy="914400"/>
          </a:xfrm>
        </p:grpSpPr>
        <p:sp>
          <p:nvSpPr>
            <p:cNvPr id="833" name=""/>
            <p:cNvSpPr/>
            <p:nvPr/>
          </p:nvSpPr>
          <p:spPr>
            <a:xfrm>
              <a:off x="6019920" y="3657600"/>
              <a:ext cx="144756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864" y="0"/>
                  </a:moveTo>
                  <a:cubicBezTo>
                    <a:pt x="863" y="72"/>
                    <a:pt x="863" y="144"/>
                    <a:pt x="720" y="240"/>
                  </a:cubicBezTo>
                  <a:cubicBezTo>
                    <a:pt x="576" y="335"/>
                    <a:pt x="288" y="455"/>
                    <a:pt x="0" y="57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56440" y="3984480"/>
              <a:ext cx="523440" cy="571680"/>
            </a:xfrm>
            <a:custGeom>
              <a:avLst/>
              <a:gdLst/>
              <a:ahLst/>
              <a:rect l="l" t="t" r="r" b="b"/>
              <a:pathLst>
                <a:path w="272" h="336">
                  <a:moveTo>
                    <a:pt x="80" y="0"/>
                  </a:moveTo>
                  <a:cubicBezTo>
                    <a:pt x="40" y="68"/>
                    <a:pt x="0" y="136"/>
                    <a:pt x="32" y="192"/>
                  </a:cubicBezTo>
                  <a:cubicBezTo>
                    <a:pt x="63" y="247"/>
                    <a:pt x="167" y="291"/>
                    <a:pt x="272" y="33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380880" y="5257800"/>
            <a:ext cx="42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of crossing over, every gamete receives a unique set of genetic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rossing 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20793600">
            <a:off x="1142640" y="137160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31480" y="685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Site of cross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is called chi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abo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s more examples of concepts that are being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oids adding new concepts, howe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students recognize the various forms the concept can take and where it can be applied in different sett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each diagram show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602080" cy="30481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935440" cy="45259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5938920" y="1600200"/>
            <a:ext cx="3052800" cy="44956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8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show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Ex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part of every 5-E lesson (this is a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E”—some people think this step can cause problem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t go in depth, but hints at next level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place where student is to really learn a concept, but gets an introduction to connect it to concepts in current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tosis--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447920" y="1508040"/>
            <a:ext cx="6248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iotic 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1 (G1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ly follows cytokines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active perio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 of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 46 human chromosomes consists of a single (very long) molecule of 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is point cells a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dentical to somatic cel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ynthesis (S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tic material is replicate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its chromosomes duplicates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is still diploid, however, because it still contains the same number of centrome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matids are in the chromatin form because spiralisation and condensation into denser chromosomes have not taken place y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2 (G2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2 phase is absent in Mei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way for the student to see what has been learned—validation of learning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s for some ‘transformation’ of concepts—changing form of ideas from one format to another (e.g., if learning was through visuals, students may write; if learning was through text, students may build a model; if learning was through text, students may draw a diagr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question in “Exploration” to be sure it is answered by new lear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could you expla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our ques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short explanation as you would for someone who does NOT know about meios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science vocabulary for now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5-10 sentences—try to be brie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f you got paid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1 sen per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week your pay dou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en, 2 sen, 4 sen, 8 s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2, 4, 8, 16, 32, 64, RM 1.28, 2.56, 5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10.24, 20.48, 40.86, 81.72, 163.44, 326.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315440" y="68580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metric Pro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09400" y="5092560"/>
            <a:ext cx="180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exual reproduction, reproductive cells combin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— ovum, male — sp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the reproductive cells each had the same number of chromosomes as the parent’s body ce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Leads To A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19720"/>
            <a:ext cx="7543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Expre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always included—or, sometimes included as part of “Engagement” or as part of “Explorat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is on student prior knowled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opportunity for students to express their own ideas—may be to self, but better if it is recorded and sha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ossible, having students generate a prediction is a good way to allow expr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not always be in words.  May be in pictures students draw, choices students make, or other ways of expressing what  they kn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o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ates prior knowledge and “schem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some open-ended and/or interactive exploration of ideas to be stud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be interactive to the extent students are prepared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s “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A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rule—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ivity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ore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when exploration makes use of science processes (e.g., observation, inferences, prediction, measure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if process of exploration makes use of several media (text, visuals, physical model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 we beg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review the stages of cell division as we already know the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re the stages of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-565200"/>
            <a:ext cx="69134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4320" y="4191120"/>
            <a:ext cx="1143000" cy="16761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905120"/>
            <a:ext cx="1143000" cy="160020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04920"/>
            <a:ext cx="114300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533520"/>
            <a:ext cx="1066680" cy="129528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905120"/>
            <a:ext cx="4343400" cy="1447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1981080"/>
            <a:ext cx="466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cc00cc"/>
                </a:solidFill>
                <a:latin typeface="Tahoma"/>
              </a:rPr>
              <a:t>Mitosis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114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Vide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1080"/>
            <a:ext cx="114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Vide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0:46:52Z</dcterms:created>
  <dc:creator>Ed Robeck</dc:creator>
  <dc:description/>
  <dc:language>en-US</dc:language>
  <cp:lastModifiedBy>Ed Robeck</cp:lastModifiedBy>
  <dcterms:modified xsi:type="dcterms:W3CDTF">2008-04-30T04:31:49Z</dcterms:modified>
  <cp:revision>17</cp:revision>
  <dc:subject/>
  <dc:title>More On Cell Division</dc:title>
</cp:coreProperties>
</file>